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883-4F08-4D36-A489-AEDFDE53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954-957F-4A4A-9AA9-5D533CED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1D7-4D26-4867-8AB0-4FF12FC4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735-A7E1-4CBC-98EC-0A175506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2EE-458F-42EB-838F-FE3D1E19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0E9-1909-425D-B43B-AD802B0F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0E4-08C1-4242-B8AA-4A357E39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19B-EA35-4081-BC93-C65C1BEC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38F-F8A6-4498-B21A-35006ADD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FC2-E54B-44E1-8C6F-E24DE4CA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F6D-403B-4C7E-A1AA-6164316D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39F-6A16-4C46-AD15-3BC4E96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3880-E321-4FAB-B798-F38AB404E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355680" y="2076480"/>
            <a:ext cx="856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ي إله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وحي النبوة لا يكون إلا للرج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68280" y="907920"/>
            <a:ext cx="8596440" cy="11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2556000" y="3789360"/>
            <a:ext cx="6273720" cy="48276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24000" y="4437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نعمل مثل ما عملوا فيصيبنا مثل ما أصا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08"/>
          <a:stretch/>
        </p:blipFill>
        <p:spPr>
          <a:xfrm>
            <a:off x="195120" y="2708280"/>
            <a:ext cx="8753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635200" y="5089680"/>
            <a:ext cx="38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216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en-US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66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نزي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عز وجل على علم وهدى وبصيرة واتباع منهج الرسول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الدعو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هج الصحيح في البدء بالدعوة إلى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دء بالتوحيد والتحذير من ال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م يبعث رسولاً من النس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رسالة من خصوصيات الرج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نظر والتأمل والتدبر في أخبار وآثار ومآل الأمم الساب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أهل الإيمان والتقوى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88880" y="907920"/>
            <a:ext cx="8467920" cy="11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0920" y="2157480"/>
            <a:ext cx="8424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2920" y="907920"/>
            <a:ext cx="848016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276120" y="357336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شترط في الدعوة اكتمال العلم بل يكفي ان يدعوهم بقدر علمه ولا يشترط ترك جميع المعاصي . قال ال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35080" y="4556160"/>
            <a:ext cx="8672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38:47Z</dcterms:modified>
  <cp:revision>2025</cp:revision>
  <dc:subject/>
  <dc:title>عرض تقديمي في PowerPoint</dc:title>
</cp:coreProperties>
</file>